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896-C2ED-44C8-B1A8-8702389B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B5D-E869-435D-B9A7-2654511E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587-6963-4710-8454-74E216BD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2B6-0524-47D2-938C-83D41679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30DC-CB08-4FDB-98F8-A3EE1865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DA2-2E65-4926-85EF-C6BA3D03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70AB-DE76-4346-8A9F-2BC5968B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3D2D-ED2C-4DDD-B8D0-B61BB07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5020-21B5-4395-863D-4DD32881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55F7-5039-4A27-8138-B0F2A956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1FAB-981D-4AFF-99EA-5BF358B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776-C21E-43BF-A921-FB812429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AF23-335A-4083-96F4-DBDC8A0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2A2-87C8-48FE-8AC4-8C041FF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3B95-81F8-46E8-BCD5-E5515E7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79E4-89BF-474D-80C1-C9BA89F0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CA75-6D9E-47BE-A70D-5690D51A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2B5-F628-45DC-B5F0-EEDC9F3F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111-170A-47CE-B3E7-F8511C86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EB7-14FF-453E-B72B-4F2CA6F9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04D-6143-4C31-8BE9-FEDE6780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475-610F-40EF-95BE-0FEA075C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577-D1FB-4286-BF46-B54652C7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A7E-4EE8-43B5-815B-0CAEC92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6B96-7C4A-4E88-B24E-EE38CB6C1992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DD2E-F2F5-43A9-8828-542B03D2F2FF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onterusgemeinde.ro/ro/biserica-neagr259/orgi/" TargetMode="External"/><Relationship Id="rId2" Type="http://schemas.openxmlformats.org/officeDocument/2006/relationships/hyperlink" Target="http://tvdigg.net/video/DHI1ld0d-do/Instrumente-Muzicale-Musical-Instruments.html" TargetMode="External"/><Relationship Id="rId3" Type="http://schemas.openxmlformats.org/officeDocument/2006/relationships/hyperlink" Target="http://romanian.cri.cn/321/2010/09/30/1s111531.htm" TargetMode="External"/><Relationship Id="rId4" Type="http://schemas.openxmlformats.org/officeDocument/2006/relationships/hyperlink" Target="http://www.reparatii-instrumente.ro/index.php?link=flau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b7"/>
                </a:solidFill>
                <a:latin typeface="Arial Black"/>
              </a:rPr>
              <a:t>Tuburi sonor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94_01"/>
          <p:cNvPicPr/>
          <p:nvPr/>
        </p:nvPicPr>
        <p:blipFill>
          <a:blip r:embed="rId1"/>
          <a:stretch/>
        </p:blipFill>
        <p:spPr>
          <a:xfrm>
            <a:off x="2514600" y="1828800"/>
            <a:ext cx="4265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Unda sonor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da sonoră este o undă longitudinal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entru a fi perceput de urechea umană, frecvenţa sunetului trebuie să fie cuprinsă între 20 Hz şi 20000H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cazul tuburilor sonore, în dreptul sursei se formează întotdeauna un ventru (amplitudinea de oscilaţie a moleculelor de aer este maxim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Aplicaţii ale tuburilor sonore în muzic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Org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N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Fla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Clari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Trompet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845080" cy="21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1438560" cy="176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b_und_c__-_trompete"/>
          <p:cNvPicPr/>
          <p:nvPr/>
        </p:nvPicPr>
        <p:blipFill>
          <a:blip r:embed="rId3"/>
          <a:stretch/>
        </p:blipFill>
        <p:spPr>
          <a:xfrm>
            <a:off x="3733920" y="1905120"/>
            <a:ext cx="218268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iccolo_m"/>
          <p:cNvPicPr/>
          <p:nvPr/>
        </p:nvPicPr>
        <p:blipFill>
          <a:blip r:embed="rId4"/>
          <a:stretch/>
        </p:blipFill>
        <p:spPr>
          <a:xfrm>
            <a:off x="3505320" y="42670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larinet-Sizes-300x241"/>
          <p:cNvPicPr/>
          <p:nvPr/>
        </p:nvPicPr>
        <p:blipFill>
          <a:blip r:embed="rId5"/>
          <a:stretch/>
        </p:blipFill>
        <p:spPr>
          <a:xfrm>
            <a:off x="6019920" y="4191120"/>
            <a:ext cx="28573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Armonici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ub deschis: l=k</a:t>
            </a:r>
            <a:r>
              <a:rPr b="0" lang="ro-RO" sz="32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ub închis: l=k</a:t>
            </a:r>
            <a:r>
              <a:rPr b="0" lang="ro-RO" sz="32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819520" cy="249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8195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Imagini - instrumente cu tuburi son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cazul unui tub deschis de lungime l=0,5m, armonica fundamentală este f=340 H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acă tubul se închide la un capăt, frecvenţa fundamentală scade la jumătate: f=170 H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Frecvenţa emisă de un diapazon este de 440 Hz (sunet pur, fără armonic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b7"/>
                </a:solidFill>
                <a:latin typeface="Arial Black"/>
              </a:rPr>
              <a:t>Frecvenţele care corespund unor note muzical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2578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b7"/>
                </a:solidFill>
                <a:latin typeface="Arial Black"/>
              </a:rPr>
              <a:t>Mixarea instrumentelor</a:t>
            </a:r>
            <a:br>
              <a:rPr sz="3600"/>
            </a:br>
            <a:r>
              <a:rPr b="1" lang="ro-RO" sz="3600" spc="-1" strike="noStrike">
                <a:solidFill>
                  <a:srgbClr val="ffffb7"/>
                </a:solidFill>
                <a:latin typeface="Arial Black"/>
              </a:rPr>
              <a:t>Mike Oldfield – “Tubular bells”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4029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31244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Instrumentele folosite de Mike Oldfiel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1219320" cy="185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56988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13734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3657600" y="1905120"/>
            <a:ext cx="24336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82412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6"/>
          <a:stretch/>
        </p:blipFill>
        <p:spPr>
          <a:xfrm>
            <a:off x="6400800" y="19051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7"/>
          <a:stretch/>
        </p:blipFill>
        <p:spPr>
          <a:xfrm>
            <a:off x="2209680" y="4495680"/>
            <a:ext cx="1905120" cy="143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8"/>
          <a:stretch/>
        </p:blipFill>
        <p:spPr>
          <a:xfrm>
            <a:off x="4191120" y="3809880"/>
            <a:ext cx="2286000" cy="119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9"/>
          <a:stretch/>
        </p:blipFill>
        <p:spPr>
          <a:xfrm>
            <a:off x="6610320" y="3886200"/>
            <a:ext cx="253368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10"/>
          <a:stretch/>
        </p:blipFill>
        <p:spPr>
          <a:xfrm>
            <a:off x="7924680" y="1905120"/>
            <a:ext cx="9702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11"/>
          <a:stretch/>
        </p:blipFill>
        <p:spPr>
          <a:xfrm>
            <a:off x="380880" y="5334120"/>
            <a:ext cx="1676520" cy="137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12"/>
          <a:stretch/>
        </p:blipFill>
        <p:spPr>
          <a:xfrm>
            <a:off x="5181480" y="5132520"/>
            <a:ext cx="1295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Bibliograf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12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honterusgemeinde.ro/ro/biserica-neagr259/org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tvdigg.net/video/DHI1ld0d-do/Instrumente-Muzicale-Musical-Instrumen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romanian.cri.cn/321/2010/09/30/1s111531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www.reparatii-instrumente.ro/index.php?link=fla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www.carme.com.ar/index.php?c=9&amp;s=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www.radiodeea.ro/phps/stiri/dance_club_news/trompetele_fac_jocurile_si_in_minimal_undergroun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www.scritube.com/stiinta/fizica/Surse-sonore15415102111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tubular.net/discography/TubularBellsII.s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www.banaterra.eu/romana/node/15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http://ro.wikipedia.org/wiki/Gam%C4%83_muzical%C4%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3:16:55Z</dcterms:created>
  <dc:creator>pap</dc:creator>
  <dc:description/>
  <dc:language>en-US</dc:language>
  <cp:lastModifiedBy>Eu</cp:lastModifiedBy>
  <dcterms:modified xsi:type="dcterms:W3CDTF">2011-01-28T19:14:53Z</dcterms:modified>
  <cp:revision>8</cp:revision>
  <dc:subject/>
  <dc:title>Tuburi sonore</dc:title>
</cp:coreProperties>
</file>